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8BC-931F-4DAD-85E0-DCDC7ED4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B18D-988B-4672-A43D-AEE3314E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FDF4-B233-479A-BC8D-60BF18CB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585-A58D-4756-B631-069B67E9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77AC-4A27-4918-9FEB-0BF5673D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0908-C7A4-4DD0-B654-75DA0379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936-C9FD-47E8-A7F6-F9BB1A09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35D-74B0-4637-9880-2040E386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3739-FC05-45FC-83F9-42D36DE5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0E6-E96F-41AB-99F4-D9A9B66E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352-F5C6-46C7-A05C-479495A0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C4A-CA5A-460E-AA04-DF7A4078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0188-DE5E-4260-ABF5-7681C136C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s. Justice’s Class Cou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2:54:28Z</dcterms:created>
  <dc:creator>Sandra Roby</dc:creator>
  <dc:description/>
  <dc:language>en-US</dc:language>
  <cp:lastModifiedBy>Sandra Roby</cp:lastModifiedBy>
  <dcterms:modified xsi:type="dcterms:W3CDTF">2008-01-16T02:55:11Z</dcterms:modified>
  <cp:revision>1</cp:revision>
  <dc:subject/>
  <dc:title>Mrs. Justice’s Class Counts</dc:title>
</cp:coreProperties>
</file>